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DCDF7-4985-4229-A270-D4BFDCDEBF9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FABAC-C8E4-460E-AEB0-C836D96381B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7E069-19DF-45B0-A0F7-8D833BC1238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5" descr="ramka_slajd z piktogramami"/>
          <p:cNvPicPr/>
          <p:nvPr/>
        </p:nvPicPr>
        <p:blipFill>
          <a:blip r:embed="rId2"/>
          <a:stretch/>
        </p:blipFill>
        <p:spPr>
          <a:xfrm>
            <a:off x="324000" y="200160"/>
            <a:ext cx="8594640" cy="634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" name="Picture 2" descr="C:\Users\Monika\Desktop\dane\Pisma i wizytówki\Prezentacje\Biuro Audytu Wewnętrznego\4białe.png"/>
          <p:cNvPicPr/>
          <p:nvPr/>
        </p:nvPicPr>
        <p:blipFill>
          <a:blip r:embed="rId2"/>
          <a:stretch/>
        </p:blipFill>
        <p:spPr>
          <a:xfrm>
            <a:off x="298440" y="237960"/>
            <a:ext cx="8594640" cy="630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8" descr="4"/>
          <p:cNvPicPr/>
          <p:nvPr/>
        </p:nvPicPr>
        <p:blipFill>
          <a:blip r:embed="rId2"/>
          <a:stretch/>
        </p:blipFill>
        <p:spPr>
          <a:xfrm>
            <a:off x="298440" y="216000"/>
            <a:ext cx="8594640" cy="63021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482760" y="5989680"/>
            <a:ext cx="5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C77EF-8121-443B-9878-79345B327A58}" type="slidenum">
              <a:rPr b="1" lang="pl-PL" sz="1200" spc="-1" strike="noStrike">
                <a:solidFill>
                  <a:srgbClr val="da1c5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9" descr="2"/>
          <p:cNvPicPr/>
          <p:nvPr/>
        </p:nvPicPr>
        <p:blipFill>
          <a:blip r:embed="rId3"/>
          <a:stretch/>
        </p:blipFill>
        <p:spPr>
          <a:xfrm>
            <a:off x="1065240" y="5911920"/>
            <a:ext cx="30240" cy="438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6"/>
          <p:cNvPicPr/>
          <p:nvPr/>
        </p:nvPicPr>
        <p:blipFill>
          <a:blip r:embed="rId4"/>
          <a:stretch/>
        </p:blipFill>
        <p:spPr>
          <a:xfrm>
            <a:off x="415800" y="1619280"/>
            <a:ext cx="8247240" cy="30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6"/>
          <p:cNvPicPr/>
          <p:nvPr/>
        </p:nvPicPr>
        <p:blipFill>
          <a:blip r:embed="rId5"/>
          <a:stretch/>
        </p:blipFill>
        <p:spPr>
          <a:xfrm>
            <a:off x="415800" y="5865840"/>
            <a:ext cx="8247240" cy="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42920" y="1427040"/>
            <a:ext cx="7058160" cy="255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Weryfikacja postępowania o udzielenie zamówienia publicznego przeprowadzonego:</a:t>
            </a:r>
            <a:br>
              <a:rPr sz="2000"/>
            </a:br>
            <a:br>
              <a:rPr sz="2000"/>
            </a:b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- w trybie ustawy Prawo zamówień publicznych,</a:t>
            </a:r>
            <a:br>
              <a:rPr sz="2000"/>
            </a:br>
            <a:br>
              <a:rPr sz="2000"/>
            </a:b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- zgodnie z zasadami konkurencyjności przed wnioskiem o płatność.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Symbol zastępczy tytułu 8"/>
          <p:cNvSpPr/>
          <p:nvPr/>
        </p:nvSpPr>
        <p:spPr>
          <a:xfrm>
            <a:off x="468360" y="4724280"/>
            <a:ext cx="4248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Łódź, 24/25 listopada 2016 rok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Co wynika z postanowień umowy dla oceny zamówień publiczny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ole tekstowe 2"/>
          <p:cNvSpPr/>
          <p:nvPr/>
        </p:nvSpPr>
        <p:spPr>
          <a:xfrm>
            <a:off x="611280" y="1844640"/>
            <a:ext cx="770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Obraz 3" descr=""/>
          <p:cNvPicPr/>
          <p:nvPr/>
        </p:nvPicPr>
        <p:blipFill>
          <a:blip r:embed="rId1"/>
          <a:stretch/>
        </p:blipFill>
        <p:spPr>
          <a:xfrm>
            <a:off x="7056360" y="5923080"/>
            <a:ext cx="690480" cy="460080"/>
          </a:xfrm>
          <a:prstGeom prst="rect">
            <a:avLst/>
          </a:prstGeom>
          <a:ln w="0">
            <a:noFill/>
          </a:ln>
        </p:spPr>
      </p:pic>
      <p:pic>
        <p:nvPicPr>
          <p:cNvPr id="154" name="Obraz 3" descr=""/>
          <p:cNvPicPr/>
          <p:nvPr/>
        </p:nvPicPr>
        <p:blipFill>
          <a:blip r:embed="rId2"/>
          <a:stretch/>
        </p:blipFill>
        <p:spPr>
          <a:xfrm>
            <a:off x="7854840" y="589608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55" name="Prostokąt 1"/>
          <p:cNvSpPr/>
          <p:nvPr/>
        </p:nvSpPr>
        <p:spPr>
          <a:xfrm>
            <a:off x="826920" y="1844640"/>
            <a:ext cx="73962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Termin i zasady usuwania braków oraz składania wyjaśnień przez Beneficjent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przypadku, gdy złożona dokumentacja zawiera braki, Samorząd Województwa wzywa Beneficjenta w formie pisemnej do ich usunięcia w terminie 7 dni od dnia doręczenia wezwa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Jeżeli istnieje konieczność uzyskania wyjaśnień, Samorząd Województwa wzywa Beneficjenta do udzielenia wyjaśnień  w terminie 7 dni od dnia doręczenia wezwania. 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ezwania, o których mowa oraz przypadki, gdy w trakcie oceny postępowania niezbędne jest uzyskanie opinii innego podmiotu lub wystąpienie o kontrolę doraźną do Prezesa Urzędu Zamówień Publicznych, wydłużają termin dokonania oceny, o czas niezbędny do usunięcia braków/składania wyjaśnień oraz o czas niezbędny do uzyskania opinii lub wyników kontroli doraźnej, o czym Samorząd Województwa informuje Beneficjenta na piśmi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 u="sng">
                <a:solidFill>
                  <a:srgbClr val="000000"/>
                </a:solidFill>
                <a:uFillTx/>
                <a:latin typeface="Arial"/>
              </a:rPr>
              <a:t>Jeżeli Beneficjent, nie złożył wymaganych dokumentów w terminie, Samorząd Województwa dokonuje oceny w oparciu o posiadane dokumen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ymbol zastępczy tekstu 4"/>
          <p:cNvSpPr/>
          <p:nvPr/>
        </p:nvSpPr>
        <p:spPr>
          <a:xfrm>
            <a:off x="468360" y="476280"/>
            <a:ext cx="77040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Ocena postępowania ofertowego zgodnie </a:t>
            </a:r>
            <a:br>
              <a:rPr sz="2400"/>
            </a:b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z zasadami konkurencyjności przed wnioskiem </a:t>
            </a:r>
            <a:br>
              <a:rPr sz="2400"/>
            </a:b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o płatność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rostokąt 2"/>
          <p:cNvSpPr/>
          <p:nvPr/>
        </p:nvSpPr>
        <p:spPr>
          <a:xfrm>
            <a:off x="755640" y="1844640"/>
            <a:ext cx="7632720" cy="37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Zasady konkurencyjności wydatków w ramach PROW 2014-2010  określa § 7 umowy o przyznaniu pomocy oraz załącznik nr 3 do umowy o przyznaniu pomoc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eneficjent, zgodnie z umową, składa dokumentację w formie kopii potwierdzonych za zgodność z oryginałem przez osobę pełniącą funkcję kierownika Zamawiającego lub osobę upoważnioną przez Zamawiająceg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ymbol zastępczy tekstu 4"/>
          <p:cNvSpPr/>
          <p:nvPr/>
        </p:nvSpPr>
        <p:spPr>
          <a:xfrm>
            <a:off x="826920" y="561960"/>
            <a:ext cx="7396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Zasady konkurencyjnoś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Obraz 3" descr=""/>
          <p:cNvPicPr/>
          <p:nvPr/>
        </p:nvPicPr>
        <p:blipFill>
          <a:blip r:embed="rId1"/>
          <a:stretch/>
        </p:blipFill>
        <p:spPr>
          <a:xfrm>
            <a:off x="7056360" y="5923080"/>
            <a:ext cx="690480" cy="460080"/>
          </a:xfrm>
          <a:prstGeom prst="rect">
            <a:avLst/>
          </a:prstGeom>
          <a:ln w="0">
            <a:noFill/>
          </a:ln>
        </p:spPr>
      </p:pic>
      <p:pic>
        <p:nvPicPr>
          <p:cNvPr id="160" name="Obraz 3" descr=""/>
          <p:cNvPicPr/>
          <p:nvPr/>
        </p:nvPicPr>
        <p:blipFill>
          <a:blip r:embed="rId2"/>
          <a:stretch/>
        </p:blipFill>
        <p:spPr>
          <a:xfrm>
            <a:off x="7854840" y="589608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1" name="Prostokąt 1"/>
          <p:cNvSpPr/>
          <p:nvPr/>
        </p:nvSpPr>
        <p:spPr>
          <a:xfrm>
            <a:off x="539640" y="1844640"/>
            <a:ext cx="768348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§ 7 umowy o przyznaniu pomocy  określ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ermin złożenia przez Beneficjenta dokumentacji związanej z przeprowadzonym postępowaniem ofertowy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ermin, w jakim SW zobowiązany jest dokonać oceny dokumentacj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Możliwość ponownego przeprowadzenia postępowania - § 7 ust. 5 umowy dopuszcza możliwość ponownego przeprowadzenia postępowania ofertowego i złożenia dokumentacji z ponownie przeprowadzonego postępowania ofertowego, która go dotyczy wraz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 wnioskiem o płatność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Możliwość ponownego przeprowadzenia postępowania ofertowego i złożenia dokumentacji z ponownie przeprowadzonego postępowania, która go dotyczy wraz z wnioskiem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 płatność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przypadku, gdy Beneficjent zawarł umowę z wykonawcą i przekazał ją z dokumentacją lub przekazał inny dokument kupna/sprzedaży potwierdzający, że nabycie usługi lub dostawy zostało dokonane, nie ma możliwości ponownego przeprowadzenia postępowa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Zasady konkurencyjnoś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rostokąt 2"/>
          <p:cNvSpPr/>
          <p:nvPr/>
        </p:nvSpPr>
        <p:spPr>
          <a:xfrm>
            <a:off x="684360" y="1844640"/>
            <a:ext cx="7848360" cy="35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Termin złożenia przez Beneficjenta dokumentacji związanej z przeprowadzonym postępowaniem ofertowy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łożenie przez Beneficjenta dokumentacji związanej z przeprowadzonym postępowaniem ofertowym potwierdzającym wybór najkorzystniejszej oferty możliwe jest najwcześniej w dniu zawarcia umowy a jednocześnie nie później niż w terminie 4 miesięcy przed pierwszym dniem terminu na złożenie wniosku o płatność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a tym etapie możliwe jest również złożenie umowy z wykonawcą, o ile została zawar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mowa z wykonawcą zamówienia, w przypadku gdy przedmiotem zamówienia są roboty budowlane, zawierana jest w formie pisemnej a w przypadkach pozostałych zamówień potwierdzeniem zawarcia umowy jest co najmniej oryginał stosownego dokumentu potwierdzającego dokonanie sprzedaży lub wykonanie usługi, zawierającego szczegółowe dane o transakcj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Zasady konkurencyjnoś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rostokąt 3"/>
          <p:cNvSpPr/>
          <p:nvPr/>
        </p:nvSpPr>
        <p:spPr>
          <a:xfrm>
            <a:off x="539640" y="1773360"/>
            <a:ext cx="8064720" cy="35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Termin, w jakim SW zobowiązany jest dokonać oceny dokumentacj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okumentacja złożona przez Beneficjenta zostanie oceniona przez Samorząd Województwa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terminie 30 dni od dnia jej złoże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Jeżeli Beneficjent złoży dokumentację z naruszeniem powyższego terminu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okumentacja nie zostanie oceniona  w trybie przewidzianym umową, o czym Beneficjent zostanie poinformowany na piśmi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okumentacja zostanie oceniona na etapie wniosku o płatność, o ile wraz z wnioskiem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 płatność nie zostanie złożona nowa dokumentacja z postępowania ofertoweg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przypadku kiedy wraz z wnioskiem o płatność zostanie dostarczona nowa dokumentacja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 postępowania ofertowego, dokumentacja złożona z naruszeniem terminu pozostaje bez rozpozna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Zasady konkurencyjnoś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rostokąt 1"/>
          <p:cNvSpPr/>
          <p:nvPr/>
        </p:nvSpPr>
        <p:spPr>
          <a:xfrm>
            <a:off x="539640" y="1773360"/>
            <a:ext cx="799308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Elementy podlegające weryfikacji, wymagane załącznikiem nr 3 do umowy o przyznaniu pomoc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posób upublicznienia zapytania ofertowego przez Beneficjenta – potwierdzenie udokumentowania publikacji zapytania ofertowego oraz modyfikacji treści zapytania ofertoweg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ferty, które wpłynęły do Beneficjenta, w tym data wpływu ofert oraz dane, które stanowią odpowiedź na warunki udziału w postępowaniu i kryteria oceny ofer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pełnienie warunku braku powiązań osobowych i kapitałowy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ybrana oferta wraz z uzasadnieniem wybor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otwierdzenie odpowiedniego upublicznienia informacji o wyniku postępowa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rotokół z wyboru najkorzystniejszej ofer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rostokąt 1"/>
          <p:cNvSpPr/>
          <p:nvPr/>
        </p:nvSpPr>
        <p:spPr>
          <a:xfrm>
            <a:off x="684360" y="1844640"/>
            <a:ext cx="77040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przypadku, gdy złożona dokumentacja będzie zawierała braki lub uchybienia, Samorząd Województwa poinformuje Beneficjenta o zakresie braków lub uchybień wraz ze wskazaniem, iż w sytuacji zrealizowania zadania, w ramach którego koszty zostaną przedstawione do refundacji, na podstawie tak przeprowadzonego postępowania ofertowego, bez usunięcia tych braków lub uchybień, które go dotyczą, zastosowana zostanie kara administracyjna, zgodnie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 zasadami określonymi w załączniku nr 4 do umow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Zasady konkurencyjnoś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Ocena postępowania o udzielenie zamówienia publiczneg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rostokąt 1"/>
          <p:cNvSpPr/>
          <p:nvPr/>
        </p:nvSpPr>
        <p:spPr>
          <a:xfrm>
            <a:off x="468360" y="1700280"/>
            <a:ext cx="813600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przypadku, gdy w wyniku przeprowadzenia oceny postępowania o udzielenie zamówienia publicznego Samorząd Województwa stwierdzi, że Beneficjent naruszył przepisy ustawy Pzp, zostanie zastosowana kara administracyjna stosownie do załączników do umowy o przyznaniu pomoc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r 5 – 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Kary administracyjne za naruszenie przepisów o zamówieniach publicznych,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r 5a -  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Kary administracyjne za naruszenie przepisów o zamówieniach publicznych po wejściu </a:t>
            </a:r>
            <a:br>
              <a:rPr sz="1400"/>
            </a:b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w życie nowelizacji ustawy pzp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przypadku, gdy Beneficjent naruszy zasady konkurencyjności wydatków określone w załączniku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r 3 do umowy o przyznaniu pomocy, zostanie zastosowana kara administracyjna, stosownie do załącznika nr 4 – 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Wskaźniki procentowe do obliczenia wartości kar administracyjnych za naruszenie zasad konkurencyjności wydatków w ramach PROW 2014-2020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971280" y="549000"/>
            <a:ext cx="7272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1746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Odwołanie  od rozstrzygnięc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46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Obraz 4" descr=""/>
          <p:cNvPicPr/>
          <p:nvPr/>
        </p:nvPicPr>
        <p:blipFill>
          <a:blip r:embed="rId1"/>
          <a:stretch/>
        </p:blipFill>
        <p:spPr>
          <a:xfrm>
            <a:off x="6948360" y="5923080"/>
            <a:ext cx="30240" cy="439560"/>
          </a:xfrm>
          <a:prstGeom prst="rect">
            <a:avLst/>
          </a:prstGeom>
          <a:ln w="0">
            <a:noFill/>
          </a:ln>
        </p:spPr>
      </p:pic>
      <p:pic>
        <p:nvPicPr>
          <p:cNvPr id="174" name="Obraz 3" descr=""/>
          <p:cNvPicPr/>
          <p:nvPr/>
        </p:nvPicPr>
        <p:blipFill>
          <a:blip r:embed="rId2"/>
          <a:stretch/>
        </p:blipFill>
        <p:spPr>
          <a:xfrm>
            <a:off x="7056360" y="5923080"/>
            <a:ext cx="690480" cy="460080"/>
          </a:xfrm>
          <a:prstGeom prst="rect">
            <a:avLst/>
          </a:prstGeom>
          <a:ln w="0">
            <a:noFill/>
          </a:ln>
        </p:spPr>
      </p:pic>
      <p:pic>
        <p:nvPicPr>
          <p:cNvPr id="175" name="Obraz 3" descr=""/>
          <p:cNvPicPr/>
          <p:nvPr/>
        </p:nvPicPr>
        <p:blipFill>
          <a:blip r:embed="rId3"/>
          <a:stretch/>
        </p:blipFill>
        <p:spPr>
          <a:xfrm>
            <a:off x="7854840" y="589608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76" name="Prostokąt 1"/>
          <p:cNvSpPr/>
          <p:nvPr/>
        </p:nvSpPr>
        <p:spPr>
          <a:xfrm>
            <a:off x="811080" y="2205000"/>
            <a:ext cx="73962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eneficjentowi przysługuje jednorazowe prawo do wniesienia do SW prośby o ponowne rozpatrzenie sprawy wraz z uzasadnieniem w zakresie rozstrzygnięcia oceny postępowania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 udzielenie zamówienia publicznego, w terminie 21 dni od dnia doręczenia Beneficjentowi pisma o danym rozstrzygnięciu (§ 18 umowy  o przyznanie pomocy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amorząd Województwa na rozpatrzenie odwołania ma 30 dni od dnia wniesienia prośby wraz z uzasadnienie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Kwalifikowalność kosztów postępowania</a:t>
            </a:r>
            <a:r>
              <a:rPr b="1" i="1" lang="pl-PL" sz="2400" spc="-1" strike="noStrike">
                <a:solidFill>
                  <a:srgbClr val="002060"/>
                </a:solidFill>
                <a:latin typeface="Centu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2060"/>
                </a:solidFill>
                <a:latin typeface="Century"/>
              </a:rPr>
              <a:t>2007-2013 a 2014-2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Obraz 3" descr=""/>
          <p:cNvPicPr/>
          <p:nvPr/>
        </p:nvPicPr>
        <p:blipFill>
          <a:blip r:embed="rId1"/>
          <a:stretch/>
        </p:blipFill>
        <p:spPr>
          <a:xfrm>
            <a:off x="7056360" y="5923080"/>
            <a:ext cx="690480" cy="460080"/>
          </a:xfrm>
          <a:prstGeom prst="rect">
            <a:avLst/>
          </a:prstGeom>
          <a:ln w="0">
            <a:noFill/>
          </a:ln>
        </p:spPr>
      </p:pic>
      <p:pic>
        <p:nvPicPr>
          <p:cNvPr id="179" name="Obraz 3" descr=""/>
          <p:cNvPicPr/>
          <p:nvPr/>
        </p:nvPicPr>
        <p:blipFill>
          <a:blip r:embed="rId2"/>
          <a:stretch/>
        </p:blipFill>
        <p:spPr>
          <a:xfrm>
            <a:off x="7854840" y="5896080"/>
            <a:ext cx="736560" cy="500040"/>
          </a:xfrm>
          <a:prstGeom prst="rect">
            <a:avLst/>
          </a:prstGeom>
          <a:ln w="0">
            <a:noFill/>
          </a:ln>
        </p:spPr>
      </p:pic>
      <p:pic>
        <p:nvPicPr>
          <p:cNvPr id="180" name="Diagram 5" descr=""/>
          <p:cNvPicPr/>
          <p:nvPr/>
        </p:nvPicPr>
        <p:blipFill>
          <a:blip r:embed="rId3"/>
          <a:stretch/>
        </p:blipFill>
        <p:spPr>
          <a:xfrm>
            <a:off x="639720" y="2803680"/>
            <a:ext cx="7675560" cy="1780920"/>
          </a:xfrm>
          <a:prstGeom prst="rect">
            <a:avLst/>
          </a:prstGeom>
          <a:ln w="0">
            <a:noFill/>
          </a:ln>
        </p:spPr>
      </p:pic>
      <p:pic>
        <p:nvPicPr>
          <p:cNvPr id="181" name="Grupa 17" descr=""/>
          <p:cNvPicPr/>
          <p:nvPr/>
        </p:nvPicPr>
        <p:blipFill>
          <a:blip r:embed="rId4"/>
          <a:stretch/>
        </p:blipFill>
        <p:spPr>
          <a:xfrm>
            <a:off x="5237280" y="2646360"/>
            <a:ext cx="4241520" cy="1974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ole tekstowe 2"/>
          <p:cNvSpPr/>
          <p:nvPr/>
        </p:nvSpPr>
        <p:spPr>
          <a:xfrm>
            <a:off x="684360" y="1700280"/>
            <a:ext cx="7907040" cy="27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stawa z dnia 22 czerwca 2016 r. o zmianie ustawy – Prawo zamówień publicznych oraz niektórych innych ustaw (Dz.U. z 2016 r. poz. 1020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Rozporządzenie Ministra Rozwoju z dnia 26 lipca 2016 r. w sprawie rodzajów dokumentów, jakich może żądać zamawiający od wykonawcy w postępowaniu o udzielenie zamówienia (Dz. U. 2016, poz. 1126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Rozporządzenie Ministra Rozwoju z dnia 26 lipca 2016 r. w sprawie protokołu postępowania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 udzielenie zamówienia publicznego (Dz. U. 2016, poz. 1128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mowa o przyznanie pomoc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Obraz 3" descr=""/>
          <p:cNvPicPr/>
          <p:nvPr/>
        </p:nvPicPr>
        <p:blipFill>
          <a:blip r:embed="rId1"/>
          <a:stretch/>
        </p:blipFill>
        <p:spPr>
          <a:xfrm>
            <a:off x="7056360" y="5923080"/>
            <a:ext cx="690480" cy="460080"/>
          </a:xfrm>
          <a:prstGeom prst="rect">
            <a:avLst/>
          </a:prstGeom>
          <a:ln w="0">
            <a:noFill/>
          </a:ln>
        </p:spPr>
      </p:pic>
      <p:pic>
        <p:nvPicPr>
          <p:cNvPr id="129" name="Obraz 3" descr=""/>
          <p:cNvPicPr/>
          <p:nvPr/>
        </p:nvPicPr>
        <p:blipFill>
          <a:blip r:embed="rId2"/>
          <a:stretch/>
        </p:blipFill>
        <p:spPr>
          <a:xfrm>
            <a:off x="7854840" y="589608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4"/>
          <p:cNvSpPr/>
          <p:nvPr/>
        </p:nvSpPr>
        <p:spPr>
          <a:xfrm>
            <a:off x="900000" y="549360"/>
            <a:ext cx="633600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                          </a:t>
            </a: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Podstawa praw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Pozytywna ocena postępowan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Obraz 3" descr=""/>
          <p:cNvPicPr/>
          <p:nvPr/>
        </p:nvPicPr>
        <p:blipFill>
          <a:blip r:embed="rId1"/>
          <a:stretch/>
        </p:blipFill>
        <p:spPr>
          <a:xfrm>
            <a:off x="7056360" y="5923080"/>
            <a:ext cx="690480" cy="460080"/>
          </a:xfrm>
          <a:prstGeom prst="rect">
            <a:avLst/>
          </a:prstGeom>
          <a:ln w="0">
            <a:noFill/>
          </a:ln>
        </p:spPr>
      </p:pic>
      <p:pic>
        <p:nvPicPr>
          <p:cNvPr id="184" name="Obraz 3" descr=""/>
          <p:cNvPicPr/>
          <p:nvPr/>
        </p:nvPicPr>
        <p:blipFill>
          <a:blip r:embed="rId2"/>
          <a:stretch/>
        </p:blipFill>
        <p:spPr>
          <a:xfrm>
            <a:off x="7854840" y="589608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3"/>
          <p:cNvSpPr/>
          <p:nvPr/>
        </p:nvSpPr>
        <p:spPr>
          <a:xfrm>
            <a:off x="611280" y="2421000"/>
            <a:ext cx="808488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okumentacja jest poprawna pod względem przepisów ustawy Pzp oraz zasad konkurencyjności określonych w umowie o przyznaniu pomoc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ostępowanie o udzielenie zamówienia publicznego przeprowadzono z naruszeniem ustawy Pzp lub zasad konkurencyjności – na podstawie taryfikatora (załącznik nr 4, 5 i 5a) została nałożona korekta w wysokości niższej niż 100%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ymbol zastępczy tekstu 4"/>
          <p:cNvSpPr/>
          <p:nvPr/>
        </p:nvSpPr>
        <p:spPr>
          <a:xfrm>
            <a:off x="1044720" y="571680"/>
            <a:ext cx="727236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Negatywna ocena postępowan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Obraz 3" descr=""/>
          <p:cNvPicPr/>
          <p:nvPr/>
        </p:nvPicPr>
        <p:blipFill>
          <a:blip r:embed="rId1"/>
          <a:stretch/>
        </p:blipFill>
        <p:spPr>
          <a:xfrm>
            <a:off x="7056360" y="5923080"/>
            <a:ext cx="690480" cy="460080"/>
          </a:xfrm>
          <a:prstGeom prst="rect">
            <a:avLst/>
          </a:prstGeom>
          <a:ln w="0">
            <a:noFill/>
          </a:ln>
        </p:spPr>
      </p:pic>
      <p:pic>
        <p:nvPicPr>
          <p:cNvPr id="188" name="Obraz 3" descr=""/>
          <p:cNvPicPr/>
          <p:nvPr/>
        </p:nvPicPr>
        <p:blipFill>
          <a:blip r:embed="rId2"/>
          <a:stretch/>
        </p:blipFill>
        <p:spPr>
          <a:xfrm>
            <a:off x="7854840" y="589608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3"/>
          <p:cNvSpPr/>
          <p:nvPr/>
        </p:nvSpPr>
        <p:spPr>
          <a:xfrm>
            <a:off x="500040" y="1989000"/>
            <a:ext cx="795960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a podstawie nałożonych korekt administracyjnych zgodnie z załącznikiem nr 4 i 5 lub 5a do umowy o przyznaniu pomocy – zostanie nałożona korekta w wysokości 100%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a podstawie posiadanych dokumentów, stwierdzone zostanie takie naruszenie przepisów ustawy, które ma wpływ na wynik postępowania – a nie zostało objęte Taryfikatore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Arial"/>
              </a:rPr>
              <a:t>DZIĘKUJĘ ZA UWAGĘ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4"/>
          <p:cNvSpPr/>
          <p:nvPr/>
        </p:nvSpPr>
        <p:spPr>
          <a:xfrm>
            <a:off x="684360" y="765000"/>
            <a:ext cx="7632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060"/>
                </a:solidFill>
                <a:latin typeface="Century"/>
              </a:rPr>
              <a:t>Co wynika z rozporządzenia WODK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ole tekstowe 2"/>
          <p:cNvSpPr/>
          <p:nvPr/>
        </p:nvSpPr>
        <p:spPr>
          <a:xfrm>
            <a:off x="733320" y="1916280"/>
            <a:ext cx="7799400" cy="41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Koszty kwalifikowalne podlegają refundacji w wysokości określonej w umowie o przyznaniu pomocy, jeżeli zostały poniesione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d dnia, w którym została zawarta umowa, a w przypadku kosztów ogólnych – od dnia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1 stycznia 2014 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godnie z przepisami o zamówieniach publicznych, a gdy te przepisy nie mają zastosowania – w wyniku wyboru przez Beneficjenta wykonawców poszczególnych zadań ujętych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zestawieniu rzeczowo-finansowym operacji z zachowaniem konkurencyjnego trybu ich wyboru określonego w umowi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§ 20 ust. 3 rozporządzenia wyłącza konieczność stosowania konkurencyjnego trybu wyboru wykonawców w stosunku do kosztów ogólnych </a:t>
            </a:r>
            <a:r>
              <a:rPr b="1" lang="pl-PL" sz="1400" spc="-1" strike="noStrike" u="sng">
                <a:solidFill>
                  <a:srgbClr val="000000"/>
                </a:solidFill>
                <a:uFillTx/>
                <a:latin typeface="Arial"/>
              </a:rPr>
              <a:t>poniesionych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przed dniem zawarcia umowy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 przyznaniu pomoc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ole tekstowe 2"/>
          <p:cNvSpPr/>
          <p:nvPr/>
        </p:nvSpPr>
        <p:spPr>
          <a:xfrm>
            <a:off x="468360" y="1700280"/>
            <a:ext cx="81360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eneficjent zobowiązany jest do ponoszenia wszystkich kosztów kwalifikowalnych z zachowaniem zasad równego traktowania, uczciwej konkurencji i przejrzystości zgodnie z przepisami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 zamówieniach publicznych, a w przypadku gdy przepisy nie będą miały zastosowania, </a:t>
            </a:r>
            <a:r>
              <a:rPr b="1" lang="pl-PL" sz="1400" spc="-1" strike="noStrike" u="sng">
                <a:solidFill>
                  <a:srgbClr val="000000"/>
                </a:solidFill>
                <a:uFillTx/>
                <a:latin typeface="Arial"/>
              </a:rPr>
              <a:t>a wartość danego zadania ujętego w zestawieniu rzeczowo-finansowym operacji przekracza 20.000 zł netto</a:t>
            </a:r>
            <a:r>
              <a:rPr b="0" lang="pl-PL" sz="14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rzeprowadzenia postępowania ofertowego i ponoszenia wszystkich kosztów kwalifikowalnych operacji zgodnie z zasadami określonymi w załączniku nr 3 do umow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tosowanie zasad konkurencyjności wydatków w ramach PROW 2014-2020 obowiązuje beneficjentów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ie będących podmiotami zobowiązanymi do stosowania ustawy pzp -  w przypadku zamówień przekraczających wartość 20 000 zł netto, tj. bez podatku od towaru i usług (kościoły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i stowarzyszenia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ędących podmiotami zobowiązanymi do stosowania ustawy pzp - w przypadku zamówień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 wartości równej lub niższej wyrażonej w złotych równowartości kwoty 30.000 euro,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a jednocześnie przekraczającej 20 000 zł nett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ałącznik nr 3 określa również do jakich zamówień zasady konkurencyjności nie mają zastosowania</a:t>
            </a:r>
            <a:r>
              <a:rPr b="0" lang="pl-PL" sz="14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900000" y="549360"/>
            <a:ext cx="741708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    </a:t>
            </a: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Co wynika z postanowień umow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Co wynika z postanowień umowy dla oceny zamówień publiczny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Obraz 3" descr=""/>
          <p:cNvPicPr/>
          <p:nvPr/>
        </p:nvPicPr>
        <p:blipFill>
          <a:blip r:embed="rId1"/>
          <a:stretch/>
        </p:blipFill>
        <p:spPr>
          <a:xfrm>
            <a:off x="7056360" y="5923080"/>
            <a:ext cx="690480" cy="460080"/>
          </a:xfrm>
          <a:prstGeom prst="rect">
            <a:avLst/>
          </a:prstGeom>
          <a:ln w="0">
            <a:noFill/>
          </a:ln>
        </p:spPr>
      </p:pic>
      <p:pic>
        <p:nvPicPr>
          <p:cNvPr id="137" name="Obraz 3" descr=""/>
          <p:cNvPicPr/>
          <p:nvPr/>
        </p:nvPicPr>
        <p:blipFill>
          <a:blip r:embed="rId2"/>
          <a:stretch/>
        </p:blipFill>
        <p:spPr>
          <a:xfrm>
            <a:off x="7854840" y="589608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38" name="Prostokąt 1"/>
          <p:cNvSpPr/>
          <p:nvPr/>
        </p:nvSpPr>
        <p:spPr>
          <a:xfrm>
            <a:off x="468360" y="1844640"/>
            <a:ext cx="81360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§ 6 umowy o przyznanie pomocy określa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ermin, w którym beneficjent jest zobowiązany przedłożyć SW dokumentację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 przeprowadzonego postępowania o udzielenie zamówienia publiczneg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Rodzaj i formę dokumentów jakie winien złożyć beneficjen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ermin, w jakim SW zobowiązany jest dokonać oceny postępowania o udzielenie zamówienia publiczneg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ermin i zasady usuwania braków oraz składania wyjaśnień przez Beneficjen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Możliwość zwrócenia się przez SW do Prezesa Urzędu Zamówień Publicznych o uzyskanie opinii w konkretnej sprawie oraz możliwość wystąpienia o kontrolę doraźną, o czym Beneficjent zostanie poinformowany na piśmi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rostokąt 3"/>
          <p:cNvSpPr/>
          <p:nvPr/>
        </p:nvSpPr>
        <p:spPr>
          <a:xfrm>
            <a:off x="539640" y="1844640"/>
            <a:ext cx="8064720" cy="29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Termin, w którym beneficjent jest zobowiązany przedłożyć SW dokumentację </a:t>
            </a: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z przeprowadzonego postępowania o udzielenie zamówienia publiczneg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30 dni od dnia zawarcia umowy, jeżeli przed jej zawarciem została zawarta umowa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 wykonawc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30 dni od dnia zawarcia umowy z wykonawcą, jeżeli umowa z wykonawcą została zawarta po dniu zawarcia umowy o przyznaniu pomoc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ie później niż w dniu upływu terminu złożenia wniosku o płatność w przypadku, gdy umowa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 wykonawcą została zawarta w terminie krótszym niż 30 dni przed upływem terminu złożenia wniosku o płatność, którego dotyczy postępowanie o udzielenie zamówienia publiczneg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900000" y="549360"/>
            <a:ext cx="741708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    </a:t>
            </a: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Co wynika z postanowień umowy dla oceny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                     </a:t>
            </a: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zamówień publiczny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Co wynika z postanowień umowy dla oceny zamówień publiczny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Obraz 3" descr=""/>
          <p:cNvPicPr/>
          <p:nvPr/>
        </p:nvPicPr>
        <p:blipFill>
          <a:blip r:embed="rId1"/>
          <a:stretch/>
        </p:blipFill>
        <p:spPr>
          <a:xfrm>
            <a:off x="7056360" y="5923080"/>
            <a:ext cx="690480" cy="460080"/>
          </a:xfrm>
          <a:prstGeom prst="rect">
            <a:avLst/>
          </a:prstGeom>
          <a:ln w="0">
            <a:noFill/>
          </a:ln>
        </p:spPr>
      </p:pic>
      <p:pic>
        <p:nvPicPr>
          <p:cNvPr id="143" name="Obraz 3" descr=""/>
          <p:cNvPicPr/>
          <p:nvPr/>
        </p:nvPicPr>
        <p:blipFill>
          <a:blip r:embed="rId2"/>
          <a:stretch/>
        </p:blipFill>
        <p:spPr>
          <a:xfrm>
            <a:off x="7854840" y="589608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44" name="Prostokąt 1"/>
          <p:cNvSpPr/>
          <p:nvPr/>
        </p:nvSpPr>
        <p:spPr>
          <a:xfrm>
            <a:off x="539640" y="1844640"/>
            <a:ext cx="763272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Rodzaj i forma dokumentów jakie winien złożyć Beneficj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eneficjent przedkłada SW dokumentację z przeprowadzonego postępowania o udzielenie zamówienia publicznego, w formie kopii potwierdzonych za zgodność z oryginałem przez osobę pełniącą funkcję kierownika Zamawiającego lub osobę upoważnioną przez Zamawiająceg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Dokumentacja  obejmuj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Kompletną dokumentację przetargową, w tym ogłosze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Kompletną dokumentację z przebiegu prac komisji przetargowej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Kompletną ofertę wybranego wykonawcy wraz z zawartą umową oraz formularze ofertowe pozostałych ofer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Kompletną dokumentację związaną z odwołaniami, zapytaniami i wyjaśnieniami do siwz. jeżeli miały miejsce w danym postępowani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poważnienie do potwierdzania dokumentacji za zgodność z oryginałem dla osoby upoważnionej przez Zamawiająceg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Inne dokumenty przetargowe, jeżeli zajdzie potrzeba ich zweryfikowania. c.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Co wynika z postanowień umowy dla oceny zamówień publiczny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rostokąt 3"/>
          <p:cNvSpPr/>
          <p:nvPr/>
        </p:nvSpPr>
        <p:spPr>
          <a:xfrm>
            <a:off x="468360" y="1789200"/>
            <a:ext cx="799128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c.d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przypadku udzielania zamówienia publicznego w trybie zamówienia z wolnej ręki na podstawie art. 67 ust.1 pkt 4 ustawy pzp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Jeżeli postępowanie zostało wszczęte po wejściu w życie nowelizacji ustaw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Kompletną dokumentację z przeprowadzonego postępowania w trybie przetargu nieograniczonego lub ograniczoneg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zasadnienie faktyczne i prawne zaistnienia przesłanek do udzielenia zamówienia z wolnej ręki w trybie art. 67 ust.1 pkt 4 ustawy pz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Jeżeli postępowanie zostało wszczęte przed wejściem w życie nowelizacji ustaw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rotokoły z kolejno unieważnionych postępowań, zawierających podstawę prawną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i uzasadnienie faktyczne (brak ofert lub wniosków o dopuszczenie do udziału w postepowaniu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Kompletną dokumentację związaną z unieważnionymi postępowaniami o udzielenie zamówienia publicznego (odrzucenie wszystkich ofert ze względu na ich niezgodność z siwz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Co wynika z postanowień umowy dla oceny zamówień publiczny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Obraz 3" descr=""/>
          <p:cNvPicPr/>
          <p:nvPr/>
        </p:nvPicPr>
        <p:blipFill>
          <a:blip r:embed="rId1"/>
          <a:stretch/>
        </p:blipFill>
        <p:spPr>
          <a:xfrm>
            <a:off x="7056360" y="5923080"/>
            <a:ext cx="690480" cy="460080"/>
          </a:xfrm>
          <a:prstGeom prst="rect">
            <a:avLst/>
          </a:prstGeom>
          <a:ln w="0">
            <a:noFill/>
          </a:ln>
        </p:spPr>
      </p:pic>
      <p:pic>
        <p:nvPicPr>
          <p:cNvPr id="149" name="Obraz 3" descr=""/>
          <p:cNvPicPr/>
          <p:nvPr/>
        </p:nvPicPr>
        <p:blipFill>
          <a:blip r:embed="rId2"/>
          <a:stretch/>
        </p:blipFill>
        <p:spPr>
          <a:xfrm>
            <a:off x="7854840" y="589608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50" name="Prostokąt 1"/>
          <p:cNvSpPr/>
          <p:nvPr/>
        </p:nvSpPr>
        <p:spPr>
          <a:xfrm>
            <a:off x="611280" y="1916280"/>
            <a:ext cx="784836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Termin, w jakim SW zobowiązany jest dokonać oceny postępowania o udzielenie zamówienia publiczneg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amorząd Województwa dokona oceny postępowania o udzielenie zamówienia publicznego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terminie </a:t>
            </a:r>
            <a:r>
              <a:rPr b="0" lang="pl-PL" sz="1400" spc="-1" strike="noStrike" u="sng">
                <a:solidFill>
                  <a:srgbClr val="000000"/>
                </a:solidFill>
                <a:uFillTx/>
                <a:latin typeface="Arial"/>
              </a:rPr>
              <a:t>60 dni roboczych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od dnia złożenia dokumentacj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19:48:29Z</dcterms:created>
  <dc:creator>Monika Kornacka</dc:creator>
  <dc:description/>
  <dc:language>en-US</dc:language>
  <cp:lastModifiedBy>Michał Kosmowski</cp:lastModifiedBy>
  <cp:lastPrinted>2013-10-21T07:28:16Z</cp:lastPrinted>
  <dcterms:modified xsi:type="dcterms:W3CDTF">2016-11-22T06:49:15Z</dcterms:modified>
  <cp:revision>613</cp:revision>
  <dc:subject/>
  <dc:title>Slajd 1</dc:title>
</cp:coreProperties>
</file>